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61F-62E0-4CF3-ABD7-7451C83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3F1-C523-48BF-B032-A905491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191-0FF4-4D06-9E14-7B4FF17E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E2F-F00D-4ED5-92D4-3E3F7D88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7B6-E8BC-4BE5-8283-FD91C6D9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A297-BC9E-47B6-8882-46ED7256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483-4474-42B9-8FD8-DA56B04E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EF3-34A4-4A03-9686-276CB69E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2F66-D397-4831-B8E9-972D15A8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13EB-4725-4A82-903D-BA8CDB76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4FE5-6F3F-4D49-9F34-906C3FE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2B5-B443-4BC8-9CC2-B12D3E1E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C25A-2E1F-487A-94AF-1948A8C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F145-31B3-417A-AD33-3429EB2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A7DC-900D-4953-8980-2288572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0230-B9D8-47B8-9509-8ADBFA48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8C19-60EC-4EE7-A7D1-EA158C05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35E6-7F3C-4977-B95C-35504AC1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2F91-729A-41A1-B92A-1E148639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FBE6-7715-4784-9896-5F7C903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4738-50EB-4B61-AF9D-6818E6A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2B3D-4BD3-4890-B0EF-1D905DB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8AD-CFAA-4410-BD3C-8EFA2067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BD31-EDEC-4A53-B205-2143126A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8338-F5BC-4A8F-A4F2-FE3E779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F7B3-DFA9-45FA-AEFA-C74FABE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42A6-4818-414B-9595-DC5FE44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AA60-789A-4392-B619-ECC5E7DA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8F31-32D4-4CD3-B062-109868A2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B369-E93F-459A-96F2-390CFA0B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453-FD97-4089-B937-022E3A99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8C2-7331-416C-94E0-B0568B47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1F6-02D7-468E-890D-005FFF43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D80-A126-4837-BE3B-D6031A6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2C2-562F-436C-A471-B7A68F1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4BB-7A26-4655-9645-CF31F2D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3F8-BD90-4049-99EF-FF297DE483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90E6-EC93-42AA-B28B-82B1C1AA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A71-87AC-4860-B14B-F2197E3170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153-0158-4EB3-9447-D6593232D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736A-C8AE-434F-9C9D-0FAB1EEBF8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23F-5DAC-48D0-BC98-F92FAF10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nri Matti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9 - 19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09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220680"/>
            <a:ext cx="5037120" cy="663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407D-07A3-4970-A1D3-06BBE004ACD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ADA2567-EF79-4F7B-9895-41FAA0B7D6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2440" y="903240"/>
            <a:ext cx="6639120" cy="504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D576-56FB-4838-AF7D-6D437B4F7712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5083E5C-C276-4FDB-B0DF-94A41A97D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46432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86A7-2DDB-4564-82E9-B6FD77DEBD9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F259295-1D66-46A9-BAEC-FBFAC1E16D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dsor Lt BT"/>
              </a:rPr>
              <a:t>Henri Mati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ll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42516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AC67-4363-4D52-8D58-CC9891280C32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462AAF8C-62FD-4C6E-862C-21677FF962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96920" y="1754280"/>
            <a:ext cx="5150160" cy="33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EC18-E256-400D-932F-BB83D95726B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DAA19BBE-6347-4525-9A72-8326B5A715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63800" y="1763640"/>
            <a:ext cx="5216400" cy="33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4DCA-ED0D-46F2-A71B-7E779318591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85E2AAB4-A831-4B68-A028-8F0E2662A4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55880" y="1738440"/>
            <a:ext cx="523080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33CC-C053-46B1-AF5C-1C78439A812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5BC5BD0-B0FB-4203-BDEB-60E014A88A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55800" y="2362320"/>
            <a:ext cx="2682720" cy="327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733920" cy="27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AD30-ED7A-4E45-B5C4-A1EAF09AA28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F4189CB5-905D-42ED-AEA8-6C29A451D2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ti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890800" cy="3610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35680" y="21337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AA30-0811-4389-B1C8-0D5EA82D6C0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8C66E39-F5A3-48C6-A1F3-D04A00F144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1869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French painters in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Law in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seriously ill when he was 21 and turned to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culptor, graphic designer and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 of the Fauvist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C0A-8C39-4E5D-BD36-EB410E7C62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0E35E-5AFE-4E3A-B95E-07AA88346B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41960" y="2286000"/>
            <a:ext cx="2595600" cy="4038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559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D14B-314A-457A-B6C4-E55647DDC83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4038052F-F942-45C4-B696-30DF98AA44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24280" y="2216160"/>
            <a:ext cx="4038840" cy="3327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3520" y="2421000"/>
            <a:ext cx="3504960" cy="312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8E97-1AD1-4310-96D4-EDB3AF8FED4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74E1258-485F-4B05-84D3-7865F5EBD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1942920" cy="403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F7BF-B6DB-49B9-A578-EDDB3223E60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D945843-27F1-4ECD-8CFB-519DB7F29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one is a Matis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3089160"/>
            <a:ext cx="3353040" cy="2540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562720" y="2743200"/>
            <a:ext cx="221616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9DB7-8A5B-46AD-9BBF-50386C07AD3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42E6AC8A-B413-4CAD-8F5D-06F87BBFB0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uvist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066680"/>
            <a:ext cx="6858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yle of painting that flourished in France from 1898 to 19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pure, briliant color, applied straight from the paint tubes in an agressive direct manner to create a sense of explo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: different colors in face, background, looks un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2001960" cy="282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267080" y="3505320"/>
            <a:ext cx="3657600" cy="30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795-CD73-42C9-97CF-257A7FEF596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73954-AEC0-47E4-9DCA-C69EA3C36A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isse’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d to paint colorful pictures about music and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 abstract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became too ill to stand and paint, he created scenes with shapes cut out of paper, “Drawing with Scissors”, also know as co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patterns in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F3A-5090-420D-8293-C143088F72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9C819-0860-4457-A9A4-F457C5A7D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36880" y="762120"/>
            <a:ext cx="36082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AC91-9703-4FDC-A7D5-A1ABF4CBF7C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A8ED8DCC-3C4B-4A4B-96BE-6360DF9A1C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nri Matis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4460760" cy="66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DA04-1146-40CB-8602-A885C471601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E518D3FC-516A-46B3-A6EE-B23D246B3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36800" y="216000"/>
            <a:ext cx="5270400" cy="642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CDA8-8BD0-498B-9625-8799F988CEE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1398E753-C731-4851-A0BB-9DF8489065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100480" cy="64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4DBD-4D54-4382-9D90-F518AC8F169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8F4CD62-2545-4043-B32B-2030CB8EAC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4:27:51Z</dcterms:created>
  <dc:creator>Patrick J. Mooney</dc:creator>
  <dc:description/>
  <dc:language>en-US</dc:language>
  <cp:lastModifiedBy>Patrick J. Mooney</cp:lastModifiedBy>
  <dcterms:modified xsi:type="dcterms:W3CDTF">2012-02-13T02:01:59Z</dcterms:modified>
  <cp:revision>14</cp:revision>
  <dc:subject/>
  <dc:title>Henri Mattise</dc:title>
</cp:coreProperties>
</file>